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6.jpeg" ContentType="image/jpeg"/>
  <Override PartName="/ppt/media/image14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10.jpeg" ContentType="image/jpeg"/>
  <Override PartName="/ppt/media/image28.png" ContentType="image/png"/>
  <Override PartName="/ppt/media/image11.gif" ContentType="image/gif"/>
  <Override PartName="/ppt/media/image5.jpeg" ContentType="image/jpeg"/>
  <Override PartName="/ppt/media/image7.gif" ContentType="image/gif"/>
  <Override PartName="/ppt/media/image17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353-9CC3-4CC0-8B49-51A9FA4F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E8F-AB00-4599-B85A-0770C9D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4FB-A2BB-4BA0-AE7E-25011330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8B2-7063-4416-9069-F678F3B0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5A5-A4A2-49C7-B31B-EA175203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D9B-28C1-4ED9-A211-A13DD4DC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0FC-BB1D-4362-BFD9-7059B40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BB0-DDD3-43EE-A490-FDC42CF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9A7-3887-4B39-99B6-9F937FE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20B-B8EA-461C-AB0D-1BE328A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135-0801-46D2-B464-6A9AA44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EA6-1DAB-4B73-89CD-115632F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861-6BE8-4958-BBE7-EDEF89381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waibozi.com/300.htm" TargetMode="External"/><Relationship Id="rId2" Type="http://schemas.openxmlformats.org/officeDocument/2006/relationships/image" Target="../media/image2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365hr.com.cn/new/chengxin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5384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92000" cy="575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24000" y="54864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诚信在你我身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928" t="0" r="32144" b="1022"/>
          <a:stretch/>
        </p:blipFill>
        <p:spPr>
          <a:xfrm>
            <a:off x="152280" y="228600"/>
            <a:ext cx="899172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66966" t="0" r="0" b="-30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是世界上最著名的大学之一，这所学校把“真理”作为校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校门和建筑物上都刻了一个拉丁文单词“真理”，这个词代表了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相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诚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正直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正门上还刻了一句话：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理之门只会向那些正直的民族开放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。”意思是说，在这个世界上那些不诚实的人是没有出路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4495680"/>
            <a:ext cx="8381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为什么人们把诚实、守信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（守社会公德）看得那么重要呢？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33520"/>
            <a:ext cx="792504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80e08"/>
                </a:solidFill>
                <a:latin typeface="Times New Roman"/>
              </a:rPr>
              <a:t>本店没有温州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靠诚信在社会上立足，一个企业、一个行业甚至是一个地区也要靠诚信在社会上立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革开放之初，我国东南沿海的一些小厂为了赚取暴利，成批地生产假冒伪劣商品，这种现象最严重的就是温州地区，在那里一切假名牌应有尽有。时间长了，全国都知道温州货不可靠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许多商店为了表明自己的信誉，都在店门口贴上“本店没有温州货”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使温州人一下子觉醒了，这才懂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要把生意做大，必须靠诚实经营，用诚信树立商业信誉和企业形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的温州已经不生产假货了，整个社会又开始重新接受温州生产的货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800600"/>
            <a:ext cx="769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做假可能在没被人识破时会得到一定的利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可是不会长久，最终会自断前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2354400"/>
            <a:ext cx="637380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仅仅是做生意才需要诚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说说看，还有什么行业需要诚信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71800" y="1523880"/>
            <a:ext cx="18288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讨论</a:t>
            </a:r>
            <a:endParaRPr b="0" lang="en-US" sz="2400" spc="1" strike="noStrike">
              <a:ln w="381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78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2819520"/>
            <a:ext cx="8001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消毒隔离或进入洁净病房、无进行必要的各项检查、无强有力的预防感染措施、无干细胞支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情况下，对李珍施予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4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257800" y="1523880"/>
            <a:ext cx="363528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8240" y="1112760"/>
            <a:ext cx="3106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咬掉耳朵的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个小孩的妈妈品行不好，经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教孩子撒谎，鼓励孩子占别人的小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，父亲捕了几条鱼，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里没有炸鱼的油了，于是妈妈就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孩子拿着一团棉花到油坊的油缸里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油，孩子照着妈妈说的方法做了，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从棉花里挤出一大碗的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419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夸他真有本事，当天晚上孩子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了香喷喷的炸鱼。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孩子胆子越来越大，开始偷鸡摸狗，骗人钱财，再后来就是抢劫杀人，最后他被判了</a:t>
            </a:r>
            <a:r>
              <a:rPr b="1" lang="zh-CN" sz="2400" spc="-1" strike="noStrike">
                <a:solidFill>
                  <a:srgbClr val="f80e08"/>
                </a:solidFill>
                <a:latin typeface="Times New Roman"/>
              </a:rPr>
              <a:t>死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刑前母亲来看他，他说，都是你，你害了我，于是把妈妈的耳朵咬掉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0240" y="380880"/>
            <a:ext cx="52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父母亲要是不诚信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后果可以祸及后代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</a:rPr>
              <a:t>发现他在德国读书期间有三次乘电车</a:t>
            </a:r>
            <a:r>
              <a:rPr b="1" lang="zh-CN" sz="2700" spc="-1" strike="noStrike">
                <a:solidFill>
                  <a:srgbClr val="660066"/>
                </a:solidFill>
                <a:latin typeface="Times New Roman"/>
              </a:rPr>
              <a:t>逃票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</a:rPr>
              <a:t>的记录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79640" y="2565360"/>
            <a:ext cx="53341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诚信是金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66680" y="12193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431496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值得庆幸的是，这个世上绝大多数人都是相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诚信的，如果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905120"/>
            <a:ext cx="84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3443400"/>
            <a:ext cx="5334120" cy="3414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4120" y="5867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火后的芝加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27240"/>
            <a:ext cx="8077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芝加哥大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国著名城市芝加哥曾经发生了世界上罕见的大火，成千上万的商人在这次大火中失去了所有的财富，一夜之间就变成了穷光蛋，有的还背上了巨额的债务。 可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中的很多人很快就创办了自己的公司，有的甚至比遭受火灾之前更富有。因为他们的诚实信用就是他们的银行账户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年的商业往来中，他们从不拖欠银行的贷款，有很好的声誉，许多银行都主动借钱给他们，他们凭着自己的勤奋和信用又开辟了自己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业。 </a:t>
            </a: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火曾经毁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他们的财产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永远毁灭不了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的信誉和声望</a:t>
            </a:r>
            <a:r>
              <a:rPr b="1" lang="zh-CN" sz="2800" spc="-1" strike="noStrike">
                <a:solidFill>
                  <a:srgbClr val="fc0a04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0"/>
            <a:ext cx="739152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灾难降临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诚信可帮你度过困境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诚实为本"/>
          <p:cNvPicPr/>
          <p:nvPr/>
        </p:nvPicPr>
        <p:blipFill>
          <a:blip r:embed="rId1"/>
          <a:stretch/>
        </p:blipFill>
        <p:spPr>
          <a:xfrm>
            <a:off x="-7920" y="0"/>
            <a:ext cx="4579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信义为纲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7885"/>
                </a:moveTo>
                <a:lnTo>
                  <a:pt x="13376" y="10497"/>
                </a:ln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lnTo>
                  <a:pt x="17763" y="14848"/>
                </a:lnTo>
                <a:lnTo>
                  <a:pt x="16109" y="14848"/>
                </a:lnTo>
                <a:lnTo>
                  <a:pt x="16109" y="22038"/>
                </a:lnTo>
                <a:lnTo>
                  <a:pt x="5491" y="22038"/>
                </a:lnTo>
                <a:lnTo>
                  <a:pt x="5491" y="14848"/>
                </a:lnTo>
                <a:lnTo>
                  <a:pt x="3837" y="14848"/>
                </a:lnTo>
                <a:close/>
              </a:path>
              <a:path fill="darkenLess" w="21600" h="29697">
                <a:moveTo>
                  <a:pt x="13376" y="10497"/>
                </a:move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close/>
              </a:path>
              <a:path fill="darkenLess" w="21600" h="29697">
                <a:moveTo>
                  <a:pt x="9877" y="18347"/>
                </a:moveTo>
                <a:lnTo>
                  <a:pt x="11723" y="18347"/>
                </a:lnTo>
                <a:lnTo>
                  <a:pt x="11723" y="22038"/>
                </a:lnTo>
                <a:lnTo>
                  <a:pt x="16109" y="22038"/>
                </a:lnTo>
                <a:lnTo>
                  <a:pt x="16109" y="14848"/>
                </a:lnTo>
                <a:lnTo>
                  <a:pt x="5491" y="14848"/>
                </a:lnTo>
                <a:lnTo>
                  <a:pt x="5491" y="22038"/>
                </a:lnTo>
                <a:lnTo>
                  <a:pt x="9877" y="220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50344" r="0" b="0"/>
          <a:stretch/>
        </p:blipFill>
        <p:spPr>
          <a:xfrm>
            <a:off x="609480" y="1158840"/>
            <a:ext cx="7848720" cy="5699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715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Arial"/>
              </a:rPr>
              <a:t>这是作弊行为，成绩是虚假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60607"/>
          <a:stretch/>
        </p:blipFill>
        <p:spPr>
          <a:xfrm>
            <a:off x="-762120" y="774720"/>
            <a:ext cx="9372600" cy="53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7491" t="39398" r="801" b="21204"/>
          <a:stretch/>
        </p:blipFill>
        <p:spPr>
          <a:xfrm>
            <a:off x="304920" y="870120"/>
            <a:ext cx="8686800" cy="545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172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Arial"/>
              </a:rPr>
              <a:t>没有做到实事求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下行为什么不诚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0613" t="20532" r="17575" b="48912"/>
          <a:stretch/>
        </p:blipFill>
        <p:spPr>
          <a:xfrm>
            <a:off x="533520" y="1496880"/>
            <a:ext cx="7848360" cy="489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2438280"/>
            <a:ext cx="2667240" cy="21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发现老师多给了分数时，不告诉老师，免得自己分数降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10800" y="6918"/>
                </a:moveTo>
                <a:lnTo>
                  <a:pt x="13376" y="9529"/>
                </a:ln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lnTo>
                  <a:pt x="17763" y="13881"/>
                </a:lnTo>
                <a:lnTo>
                  <a:pt x="16109" y="13881"/>
                </a:lnTo>
                <a:lnTo>
                  <a:pt x="16109" y="21070"/>
                </a:lnTo>
                <a:lnTo>
                  <a:pt x="5491" y="21070"/>
                </a:lnTo>
                <a:lnTo>
                  <a:pt x="5491" y="13881"/>
                </a:lnTo>
                <a:lnTo>
                  <a:pt x="3837" y="13881"/>
                </a:lnTo>
                <a:close/>
              </a:path>
              <a:path fill="darkenLess" w="21600" h="27761">
                <a:moveTo>
                  <a:pt x="13376" y="9529"/>
                </a:move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close/>
              </a:path>
              <a:path fill="darkenLess" w="21600" h="27761">
                <a:moveTo>
                  <a:pt x="9877" y="17379"/>
                </a:moveTo>
                <a:lnTo>
                  <a:pt x="11723" y="17379"/>
                </a:lnTo>
                <a:lnTo>
                  <a:pt x="11723" y="21070"/>
                </a:lnTo>
                <a:lnTo>
                  <a:pt x="16109" y="21070"/>
                </a:lnTo>
                <a:lnTo>
                  <a:pt x="16109" y="13881"/>
                </a:lnTo>
                <a:lnTo>
                  <a:pt x="5491" y="13881"/>
                </a:lnTo>
                <a:lnTo>
                  <a:pt x="5491" y="21070"/>
                </a:lnTo>
                <a:lnTo>
                  <a:pt x="9877" y="210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10800" y="6918"/>
                </a:moveTo>
                <a:lnTo>
                  <a:pt x="13376" y="9529"/>
                </a:ln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lnTo>
                  <a:pt x="17763" y="13881"/>
                </a:lnTo>
                <a:lnTo>
                  <a:pt x="16109" y="13881"/>
                </a:lnTo>
                <a:lnTo>
                  <a:pt x="16109" y="21070"/>
                </a:lnTo>
                <a:lnTo>
                  <a:pt x="5491" y="21070"/>
                </a:lnTo>
                <a:lnTo>
                  <a:pt x="5491" y="13881"/>
                </a:lnTo>
                <a:lnTo>
                  <a:pt x="3837" y="13881"/>
                </a:lnTo>
                <a:close/>
              </a:path>
              <a:path fill="darkenLess" w="21600" h="27761">
                <a:moveTo>
                  <a:pt x="13376" y="9529"/>
                </a:moveTo>
                <a:lnTo>
                  <a:pt x="13376" y="7788"/>
                </a:lnTo>
                <a:lnTo>
                  <a:pt x="15152" y="7788"/>
                </a:lnTo>
                <a:lnTo>
                  <a:pt x="15152" y="11304"/>
                </a:lnTo>
                <a:close/>
              </a:path>
              <a:path fill="darkenLess" w="21600" h="27761">
                <a:moveTo>
                  <a:pt x="9877" y="17379"/>
                </a:moveTo>
                <a:lnTo>
                  <a:pt x="11723" y="17379"/>
                </a:lnTo>
                <a:lnTo>
                  <a:pt x="11723" y="21070"/>
                </a:lnTo>
                <a:lnTo>
                  <a:pt x="16109" y="21070"/>
                </a:lnTo>
                <a:lnTo>
                  <a:pt x="16109" y="13881"/>
                </a:lnTo>
                <a:lnTo>
                  <a:pt x="5491" y="13881"/>
                </a:lnTo>
                <a:lnTo>
                  <a:pt x="5491" y="21070"/>
                </a:lnTo>
                <a:lnTo>
                  <a:pt x="9877" y="210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30228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30492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6880" y="57150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建筑工人挖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坟墓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708360" cy="556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22400" y="568656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多年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美国某机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要建孤儿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61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认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368960" cy="655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895480" y="19051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57200"/>
            <a:ext cx="22096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7880" y="457200"/>
            <a:ext cx="131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墓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人的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来认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赔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5080" y="5791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该机构将此事登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1140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864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他来了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304920"/>
            <a:ext cx="19051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0"/>
            <a:ext cx="21337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墓中人的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儿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呜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153280" y="2133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920" y="457200"/>
            <a:ext cx="12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儿子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言而有信  一诺千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诚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诚：诚实无欺、诚实做人、诚实做事，实事求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信：有信用、讲信誉、守信义、不虚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理智的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，一旦许下承诺，就要忠实履行，否则会产生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信任危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欺人可一时，但不能一世，一旦被识破，就难以在社会立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诚信的人，伤害别人，也伤害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16320" cy="6324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2960" y="1143000"/>
            <a:ext cx="374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头条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死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的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竟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儿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单如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XX;XXX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9440" y="46195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报纸把这些来冒认尸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贪财人的名字登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出来…他在其中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37160" y="457200"/>
            <a:ext cx="360684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9280" y="4630680"/>
            <a:ext cx="297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他很羞愧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珍藏这份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纸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警示自己要做一个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实可信的人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成了全美通迅业的巨头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他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爱德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533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张报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格拉姆是英国著名报纸《伦敦图片新闻》的创始人。刚刚毕业的时候，报社的规模很小，报纸的发行量也很小。但是他一点儿也不灰心，真诚地对待每一位客户，即使是只订一张报纸的客户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次，为了不让他的读者失望，他送一张报纸步行了六千多米的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久了，人们发现这份报纸总是能够提供最准确的新闻资讯，并且每期都能准时送到读者手里。人们开始争相订阅这份报纸。后来《伦敦图片新闻》成为十分畅销的报纸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4800600"/>
            <a:ext cx="63244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诚信有助创业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命运也总是青睐诚信的人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1920" y="401760"/>
            <a:ext cx="73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今中外因诚信而成为各个领域的佼佼者的例子实在太多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行各业的精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绝大多数都有着诚信的品质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365hr.com.cn/new/chengxin.ht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就有不少这类事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诚信适用于一切领域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曾任美国波士顿市市长的哈特先生说，五十年来，他看到百分之九十的成功生意人都是正直和诚实的人，那些不诚实的生意人大多数都会破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他在一次演讲中还说：“诚信是一条自然法则，违背诚信的人是会得到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报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诚信就像万有引力定律一样，适用于一切领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。拥有诚信，也就掌握了成功的方法。”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823160" cy="2412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2120" y="1143000"/>
            <a:ext cx="80769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吃偷来的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是中国共产党早期农民运动的成功的领导人。他六岁上学，是个品学兼优的好学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天中午放学，同学们路过一个围墙时，发现墙内有石榴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0"/>
            <a:ext cx="6095880" cy="106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诚信，你也可以做到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94880" y="762120"/>
            <a:ext cx="4417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很想吃。 这时候，一个大同学从旁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走过，就怂恿他们动手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摘下之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站在围墙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边吃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时，彭湃从后面赶了上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学习在班上总是第一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常帮助同学，所以孩子们都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喜欢他。看到他来了，同学们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慷慨地掰了一半石榴递给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说：“彭湃，石榴可甜了，你也吃一半吧！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13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29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38088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奇怪石榴是哪儿来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同学说：“自己上去搞的！” 彭湃连忙把石榴退还，说：“你们偷人家的石榴，就不怕妈妈骂你吗？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大一点儿的同学说：“不告诉妈妈，不就行了吗？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64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4280" y="3809880"/>
            <a:ext cx="539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的妈妈是一个很正直的农村妇女，她常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最近做了些什么事？哪些好，哪些坏？” 彭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是如实回答。 他以为，别人的妈妈也会这样问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很生气地说：“你们不但偷东西，而且还不诚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再也不和你们玩了。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514600" cy="3810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3049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家后，彭湃把此事告诉妈妈。妈妈很高兴，但还试探着问：“你不想吃石榴吗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答：“我很想吃呀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那同学分给你，你怎么不要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那是偷来的，我不能要。要是让您知道我      吃了偷来的石榴，您会生气的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12408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你不告诉我，我怎知道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可我不能撒谎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很高兴地说：“你真是个诚实的好孩子，妈妈给你钱，你自己去买石榴吧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接过钱，说：“谢谢妈妈！”就高兴地去买石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2960" y="284040"/>
            <a:ext cx="731664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4680" y="290520"/>
            <a:ext cx="9153360" cy="6284880"/>
            <a:chOff x="-4680" y="290520"/>
            <a:chExt cx="9153360" cy="6284880"/>
          </a:xfrm>
        </p:grpSpPr>
        <p:grpSp>
          <p:nvGrpSpPr>
            <p:cNvPr id="165" name=""/>
            <p:cNvGrpSpPr/>
            <p:nvPr/>
          </p:nvGrpSpPr>
          <p:grpSpPr>
            <a:xfrm>
              <a:off x="0" y="295200"/>
              <a:ext cx="9144000" cy="6275520"/>
              <a:chOff x="0" y="295200"/>
              <a:chExt cx="9144000" cy="627552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0" y="295200"/>
                <a:ext cx="9144000" cy="6275160"/>
                <a:chOff x="0" y="295200"/>
                <a:chExt cx="9144000" cy="6275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295200"/>
                  <a:ext cx="9144000" cy="627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295200"/>
                  <a:ext cx="82296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0" y="295200"/>
                <a:ext cx="9144000" cy="627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-4680" y="290520"/>
              <a:ext cx="9153360" cy="6284880"/>
            </a:xfrm>
            <a:prstGeom prst="rect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 rot="5400000">
            <a:off x="4000320" y="3009960"/>
            <a:ext cx="5257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诚信的形成，从小事做起！</a:t>
            </a:r>
            <a:endParaRPr b="0" i="1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66688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思考后回答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14600" y="327672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说说看，你对待别人（老师、同学、家人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......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）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哪些方面做到了诚信？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这有好处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哪些方面没做到？会有什么后果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380880" y="2895480"/>
            <a:ext cx="8534520" cy="3581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38752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我们的诚信可以这样建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供参考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在校按中学生守则做到每一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对父母孝顺体贴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对同学互助友爱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对每一个人都礼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不轻言承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诺则一诺千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不做损人的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不轻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开过火玩笑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不与人比吃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只比学习进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7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6785280" y="653040"/>
            <a:ext cx="1642680" cy="72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诚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造就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祖国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对人守信，对事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诚信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人守信，对事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践约守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我们诚实做人的</a:t>
            </a:r>
            <a:r>
              <a:rPr b="1" lang="zh-CN" sz="2800" spc="-1" strike="noStrike" u="sng">
                <a:solidFill>
                  <a:srgbClr val="ff33cc"/>
                </a:solidFill>
                <a:uFillTx/>
                <a:latin typeface="Arial"/>
              </a:rPr>
              <a:t>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承诺是一种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严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事情。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轻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诺而不兑现，是一种不良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人方面实质上没有大事小事之分，做大事的同时也要拘小节，把做事与做人有机地统一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9360" y="685800"/>
            <a:ext cx="5941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《诚信之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祝愿  诚信的种子  播撒荒芜的心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期盼  诚信的利剑  斩断欺瞒的锁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牢记  古往今来    那些诚信的教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神往  茫茫人间    那些诚信的榜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呼唤  彼此诚实    一清如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呼唤  与人和睦    言行相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承诺  对家庭尽心  对社会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我们承诺  对朋友忠诚  对世人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447920" y="457200"/>
            <a:ext cx="6324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43000" y="533520"/>
            <a:ext cx="670572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做诚信的人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坚持诚实，就会赢得信任。诚实是获得信任的前提，信任的基础是诚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诚实的人蒙蔽他人，只是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暂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诚信守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守则之一：坚持实事求是，诚信的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尊重客观事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守则之二：在涉及利益冲突时，应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站在多数人的利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边，不能以一己的私利损害多数人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守则之三：眼前利益与长远利益发生冲突时，站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在长远利益一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能因为眼前的利益而损害长远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守则之四：在涉及情与法的冲突时，站在法律一边，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诚信所维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不是私情，而是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国家法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诚信的智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诚信的要求是确定的，但作到诚信的具体条件又是具体的，需要我们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讲究诚信的智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当诚实与尊重他人隐私发生冲突时，我们要结合具体的情景，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坚持原则，按照实际情况妥善处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“善意的谎言”是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维护对方利益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需要，并不违背诚实的道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诚实的核心是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“善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几个古语的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一言、驷马难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在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理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下，一旦许下诺言，就要忠实地履行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而无信，不知其可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人不讲信用，不知他怎么可以立身处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65180" b="10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8:28Z</dcterms:modified>
  <cp:revision>53</cp:revision>
  <dc:subject>主题班会课件(分28大类): http://shop62905894.taobao.com</dc:subject>
  <dc:title>主题班会课件(分28大类): http://shop62905894.taobao.com</dc:title>
</cp:coreProperties>
</file>